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19.png" ContentType="image/png"/>
  <Override PartName="/ppt/media/image20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29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13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rmAutofit fontScale="94000"/>
          </a:bodyPr>
          <a:p>
            <a:pPr marL="338400" indent="-3384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788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8600" indent="-2250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076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076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076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48480"/>
            <a:ext cx="3970440" cy="20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ismology and the Earth’s Deep Inter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06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ection3d" descr=""/>
          <p:cNvPicPr/>
          <p:nvPr/>
        </p:nvPicPr>
        <p:blipFill>
          <a:blip r:embed="rId2"/>
          <a:stretch/>
        </p:blipFill>
        <p:spPr>
          <a:xfrm>
            <a:off x="0" y="0"/>
            <a:ext cx="1249200" cy="6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173560" y="6648480"/>
            <a:ext cx="3970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ismic 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466120" y="0"/>
          <a:ext cx="67788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6120" y="0"/>
                    <a:ext cx="677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7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00240" y="1452600"/>
            <a:ext cx="4962600" cy="423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eismic moment and magn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Fault scar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lastic reb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ichter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nergy of earthqu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eismic mo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Fault area, horizontal sl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omic Sans MS"/>
              </a:rPr>
              <a:t>Fault plane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</a:rPr>
              <a:t>Fault displacement and double cou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</a:rPr>
              <a:t>Source radiation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</a:rPr>
              <a:t>Beach b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omic Sans MS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</a:rPr>
              <a:t>Fault plane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ismotectonic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diation from shear disloc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7050240" y="2085840"/>
            <a:ext cx="1834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rst motion of P waves at seismometers in various dire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polarities of the observed motion is used to determine the point source characterist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adiation02" descr=""/>
          <p:cNvPicPr/>
          <p:nvPr/>
        </p:nvPicPr>
        <p:blipFill>
          <a:blip r:embed="rId1"/>
          <a:stretch/>
        </p:blipFill>
        <p:spPr>
          <a:xfrm>
            <a:off x="196920" y="909720"/>
            <a:ext cx="6635520" cy="5495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cal Mechanism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faultplane" descr=""/>
          <p:cNvPicPr/>
          <p:nvPr/>
        </p:nvPicPr>
        <p:blipFill>
          <a:blip r:embed="rId1"/>
          <a:stretch/>
        </p:blipFill>
        <p:spPr>
          <a:xfrm>
            <a:off x="225360" y="1522440"/>
            <a:ext cx="8488440" cy="339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1" name=""/>
          <p:cNvSpPr/>
          <p:nvPr/>
        </p:nvSpPr>
        <p:spPr>
          <a:xfrm>
            <a:off x="2647440" y="1081080"/>
            <a:ext cx="43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cal mechanism for an oblique-slip ev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15920" y="5213520"/>
            <a:ext cx="300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-wave polarities and relative ampl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7280" y="5227560"/>
            <a:ext cx="263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-wave polarizations and ampl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Seismic 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810360" y="5024520"/>
            <a:ext cx="775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The basic physical model for a source is two 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planes slipping in opposite dire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ource2" descr=""/>
          <p:cNvPicPr/>
          <p:nvPr/>
        </p:nvPicPr>
        <p:blipFill>
          <a:blip r:embed="rId1"/>
          <a:stretch/>
        </p:blipFill>
        <p:spPr>
          <a:xfrm>
            <a:off x="650880" y="1006560"/>
            <a:ext cx="7513560" cy="3709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Seismic 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17960" y="5241960"/>
            <a:ext cx="830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Our goal: find the </a:t>
            </a:r>
            <a:r>
              <a:rPr b="1" lang="de-DE" sz="2600" spc="-1" strike="noStrike">
                <a:solidFill>
                  <a:srgbClr val="ff0000"/>
                </a:solidFill>
                <a:latin typeface="Comic Sans MS"/>
              </a:rPr>
              <a:t>fault plane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1" lang="de-DE" sz="2600" spc="-1" strike="noStrike">
                <a:solidFill>
                  <a:srgbClr val="ff0000"/>
                </a:solidFill>
                <a:latin typeface="Comic Sans MS"/>
              </a:rPr>
              <a:t>slip dir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ource3" descr=""/>
          <p:cNvPicPr/>
          <p:nvPr/>
        </p:nvPicPr>
        <p:blipFill>
          <a:blip r:embed="rId1"/>
          <a:stretch/>
        </p:blipFill>
        <p:spPr>
          <a:xfrm>
            <a:off x="693720" y="1046160"/>
            <a:ext cx="7689960" cy="3728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Seismic 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source1" descr=""/>
          <p:cNvPicPr/>
          <p:nvPr/>
        </p:nvPicPr>
        <p:blipFill>
          <a:blip r:embed="rId1"/>
          <a:stretch/>
        </p:blipFill>
        <p:spPr>
          <a:xfrm>
            <a:off x="488880" y="1347840"/>
            <a:ext cx="81136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1506240" y="4654440"/>
            <a:ext cx="636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The radiation from seismic sources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in general strongly direction-depen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diation from a point sour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837480" y="1392120"/>
            <a:ext cx="16570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ometry we use to express the seismic wavefield radiated by point double-couple source with area A and slip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re the fault plane is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plane and the slip is in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direction.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Which stress components are aff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doubecouple2" descr=""/>
          <p:cNvPicPr/>
          <p:nvPr/>
        </p:nvPicPr>
        <p:blipFill>
          <a:blip r:embed="rId1"/>
          <a:stretch/>
        </p:blipFill>
        <p:spPr>
          <a:xfrm>
            <a:off x="1441440" y="1600200"/>
            <a:ext cx="466092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03720" y="320400"/>
            <a:ext cx="279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diation from a point sour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342120" y="223056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e of the most important results of seismolog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t’s have a closer look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ointsource1" descr=""/>
          <p:cNvPicPr/>
          <p:nvPr/>
        </p:nvPicPr>
        <p:blipFill>
          <a:blip r:embed="rId1"/>
          <a:stretch/>
        </p:blipFill>
        <p:spPr>
          <a:xfrm>
            <a:off x="1434960" y="927000"/>
            <a:ext cx="3051360" cy="290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99" name="pointsource2" descr=""/>
          <p:cNvPicPr/>
          <p:nvPr/>
        </p:nvPicPr>
        <p:blipFill>
          <a:blip r:embed="rId2"/>
          <a:stretch/>
        </p:blipFill>
        <p:spPr>
          <a:xfrm>
            <a:off x="4282920" y="4260960"/>
            <a:ext cx="44802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0" name=""/>
          <p:cNvSpPr/>
          <p:nvPr/>
        </p:nvSpPr>
        <p:spPr>
          <a:xfrm>
            <a:off x="1643040" y="4086360"/>
            <a:ext cx="23940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nd displacement as a function of space and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ance from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ear 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-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ar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P/S intermediate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P/S far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ismic mo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5080" y="460080"/>
            <a:ext cx="279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diation from a point sour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037200" y="592200"/>
            <a:ext cx="165744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ar field term contains the static de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ntsource1" descr=""/>
          <p:cNvPicPr/>
          <p:nvPr/>
        </p:nvPicPr>
        <p:blipFill>
          <a:blip r:embed="rId1"/>
          <a:stretch/>
        </p:blipFill>
        <p:spPr>
          <a:xfrm>
            <a:off x="1332000" y="2362320"/>
            <a:ext cx="3611520" cy="343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4" name=""/>
          <p:cNvSpPr/>
          <p:nvPr/>
        </p:nvSpPr>
        <p:spPr>
          <a:xfrm>
            <a:off x="6303960" y="2408400"/>
            <a:ext cx="1657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mediat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7320" y="3894120"/>
            <a:ext cx="16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r field terms: the main ingredient for source inversion, ray theory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26160" y="1549440"/>
            <a:ext cx="1231920" cy="11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863960" y="2692440"/>
            <a:ext cx="13464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825800" y="2705040"/>
            <a:ext cx="1384200" cy="14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38760" y="4711680"/>
            <a:ext cx="1396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38760" y="4749840"/>
            <a:ext cx="1434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5080" y="460080"/>
            <a:ext cx="279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diation patter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ointsource2" descr=""/>
          <p:cNvPicPr/>
          <p:nvPr/>
        </p:nvPicPr>
        <p:blipFill>
          <a:blip r:embed="rId1"/>
          <a:stretch/>
        </p:blipFill>
        <p:spPr>
          <a:xfrm>
            <a:off x="1184400" y="2444760"/>
            <a:ext cx="447984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3" name="rad_view1" descr=""/>
          <p:cNvPicPr/>
          <p:nvPr/>
        </p:nvPicPr>
        <p:blipFill>
          <a:blip r:embed="rId2"/>
          <a:stretch/>
        </p:blipFill>
        <p:spPr>
          <a:xfrm>
            <a:off x="5942160" y="347760"/>
            <a:ext cx="292392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4" name="rad_view2" descr=""/>
          <p:cNvPicPr/>
          <p:nvPr/>
        </p:nvPicPr>
        <p:blipFill>
          <a:blip r:embed="rId3"/>
          <a:stretch/>
        </p:blipFill>
        <p:spPr>
          <a:xfrm>
            <a:off x="5969160" y="3649680"/>
            <a:ext cx="293184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2100240" y="5024520"/>
            <a:ext cx="21906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r field P –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r field S -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72480" y="1663560"/>
            <a:ext cx="545760" cy="406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137000" y="1422360"/>
            <a:ext cx="584280" cy="4190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1160" y="3517920"/>
            <a:ext cx="294624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5080" y="460080"/>
            <a:ext cx="279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ismic moment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ointsource1" descr=""/>
          <p:cNvPicPr/>
          <p:nvPr/>
        </p:nvPicPr>
        <p:blipFill>
          <a:blip r:embed="rId1"/>
          <a:stretch/>
        </p:blipFill>
        <p:spPr>
          <a:xfrm>
            <a:off x="5699160" y="1028880"/>
            <a:ext cx="3051000" cy="290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857240" y="2400480"/>
                <a:ext cx="3076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Δ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846440" y="3957480"/>
            <a:ext cx="319392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ismic mo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g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(t)&gt;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sl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ult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41840" y="4719600"/>
            <a:ext cx="31942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 that the far-field displacement is proportional to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oment ra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Landers, Kaliforni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DSC01513" descr=""/>
          <p:cNvPicPr/>
          <p:nvPr/>
        </p:nvPicPr>
        <p:blipFill>
          <a:blip r:embed="rId1"/>
          <a:stretch/>
        </p:blipFill>
        <p:spPr>
          <a:xfrm>
            <a:off x="4545000" y="1136520"/>
            <a:ext cx="4071960" cy="542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landersdetail" descr=""/>
          <p:cNvPicPr/>
          <p:nvPr/>
        </p:nvPicPr>
        <p:blipFill>
          <a:blip r:embed="rId2"/>
          <a:stretch/>
        </p:blipFill>
        <p:spPr>
          <a:xfrm>
            <a:off x="4965840" y="1785960"/>
            <a:ext cx="3612960" cy="3459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51" name=""/>
          <p:cNvGrpSpPr/>
          <p:nvPr/>
        </p:nvGrpSpPr>
        <p:grpSpPr>
          <a:xfrm>
            <a:off x="5095800" y="3170160"/>
            <a:ext cx="3038400" cy="331920"/>
            <a:chOff x="5095800" y="3170160"/>
            <a:chExt cx="3038400" cy="331920"/>
          </a:xfrm>
        </p:grpSpPr>
        <p:sp>
          <p:nvSpPr>
            <p:cNvPr id="52" name=""/>
            <p:cNvSpPr/>
            <p:nvPr/>
          </p:nvSpPr>
          <p:spPr>
            <a:xfrm>
              <a:off x="5095800" y="3333960"/>
              <a:ext cx="3038400" cy="576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07960" y="3501360"/>
              <a:ext cx="129636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853600" y="3170160"/>
              <a:ext cx="1296360" cy="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90520" y="2673360"/>
            <a:ext cx="2816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Landers, Kaliforn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Epizentrum 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M7.4 Erdbeben von 1992. Horizontale Verschiebung 6m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95440" y="460080"/>
            <a:ext cx="308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ismogra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88040" y="2941560"/>
            <a:ext cx="31939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 moment M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11760" y="388800"/>
            <a:ext cx="385596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17760" y="3322800"/>
            <a:ext cx="4397400" cy="270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0" name=""/>
          <p:cNvSpPr/>
          <p:nvPr/>
        </p:nvSpPr>
        <p:spPr>
          <a:xfrm>
            <a:off x="1606680" y="6192720"/>
            <a:ext cx="60894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rizontal displacement 5km away from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3120" y="312480"/>
            <a:ext cx="6140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Velocity seismograms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M6.5 point sour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seismograms" descr=""/>
          <p:cNvPicPr/>
          <p:nvPr/>
        </p:nvPicPr>
        <p:blipFill>
          <a:blip r:embed="rId1"/>
          <a:stretch/>
        </p:blipFill>
        <p:spPr>
          <a:xfrm>
            <a:off x="4417920" y="1940040"/>
            <a:ext cx="3835440" cy="453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33" name="doubecouple2" descr=""/>
          <p:cNvPicPr/>
          <p:nvPr/>
        </p:nvPicPr>
        <p:blipFill>
          <a:blip r:embed="rId2"/>
          <a:stretch/>
        </p:blipFill>
        <p:spPr>
          <a:xfrm>
            <a:off x="1343160" y="530280"/>
            <a:ext cx="215244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4" name=""/>
          <p:cNvSpPr/>
          <p:nvPr/>
        </p:nvSpPr>
        <p:spPr>
          <a:xfrm>
            <a:off x="1129320" y="3413160"/>
            <a:ext cx="275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isplac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(static near-field eff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Velo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798640" y="3009600"/>
            <a:ext cx="1393920" cy="63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4160" y="4641840"/>
            <a:ext cx="222264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taticd" descr=""/>
          <p:cNvPicPr/>
          <p:nvPr/>
        </p:nvPicPr>
        <p:blipFill>
          <a:blip r:embed="rId3"/>
          <a:stretch/>
        </p:blipFill>
        <p:spPr>
          <a:xfrm>
            <a:off x="1079640" y="1895400"/>
            <a:ext cx="7743600" cy="3381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54200" y="383760"/>
            <a:ext cx="2833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Rotational seismograms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M6.5 point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doubecouple2" descr=""/>
          <p:cNvPicPr/>
          <p:nvPr/>
        </p:nvPicPr>
        <p:blipFill>
          <a:blip r:embed="rId1"/>
          <a:stretch/>
        </p:blipFill>
        <p:spPr>
          <a:xfrm>
            <a:off x="1244520" y="347760"/>
            <a:ext cx="215280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"/>
          <p:cNvSpPr/>
          <p:nvPr/>
        </p:nvSpPr>
        <p:spPr>
          <a:xfrm>
            <a:off x="1129320" y="3413160"/>
            <a:ext cx="275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o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(static near-field eff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otation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98640" y="2179440"/>
            <a:ext cx="3152880" cy="14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57600" y="4711680"/>
            <a:ext cx="310824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rseismograms" descr=""/>
          <p:cNvPicPr/>
          <p:nvPr/>
        </p:nvPicPr>
        <p:blipFill>
          <a:blip r:embed="rId2"/>
          <a:stretch/>
        </p:blipFill>
        <p:spPr>
          <a:xfrm>
            <a:off x="6107040" y="328680"/>
            <a:ext cx="2505240" cy="6229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4" name="staticr2" descr=""/>
          <p:cNvPicPr/>
          <p:nvPr/>
        </p:nvPicPr>
        <p:blipFill>
          <a:blip r:embed="rId3"/>
          <a:stretch/>
        </p:blipFill>
        <p:spPr>
          <a:xfrm>
            <a:off x="1089000" y="1400040"/>
            <a:ext cx="7810560" cy="3972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ment tensor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710400" y="1595520"/>
            <a:ext cx="165744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int sources can be described by the seismic moment tensor M. The elements of M have clear physical meaning as forces acting on particular pla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ensor" descr=""/>
          <p:cNvPicPr/>
          <p:nvPr/>
        </p:nvPicPr>
        <p:blipFill>
          <a:blip r:embed="rId1"/>
          <a:stretch/>
        </p:blipFill>
        <p:spPr>
          <a:xfrm>
            <a:off x="347760" y="863640"/>
            <a:ext cx="558936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eachballs and moment tens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5495760" y="1898640"/>
            <a:ext cx="30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xplosion - im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moment_tensor" descr=""/>
          <p:cNvPicPr/>
          <p:nvPr/>
        </p:nvPicPr>
        <p:blipFill>
          <a:blip r:embed="rId1"/>
          <a:stretch/>
        </p:blipFill>
        <p:spPr>
          <a:xfrm>
            <a:off x="268200" y="873000"/>
            <a:ext cx="4889520" cy="5397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1" name=""/>
          <p:cNvSpPr/>
          <p:nvPr/>
        </p:nvSpPr>
        <p:spPr>
          <a:xfrm>
            <a:off x="5518080" y="2638440"/>
            <a:ext cx="30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vertical strike slip 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73880" y="3357720"/>
            <a:ext cx="30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vertical dip slip 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9240" y="4110120"/>
            <a:ext cx="30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45° dip thrust 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16720" y="5154480"/>
            <a:ext cx="309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compensated linear vector di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ault typ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597720" y="2158920"/>
            <a:ext cx="1657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is fault types and their appearance in the focal mechanisms. Dark regions indicate compressional P-wave mo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beachball" descr=""/>
          <p:cNvPicPr/>
          <p:nvPr/>
        </p:nvPicPr>
        <p:blipFill>
          <a:blip r:embed="rId1"/>
          <a:stretch/>
        </p:blipFill>
        <p:spPr>
          <a:xfrm>
            <a:off x="1235160" y="1011240"/>
            <a:ext cx="41162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eachballs - Icelan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beach_iceland" descr=""/>
          <p:cNvPicPr/>
          <p:nvPr/>
        </p:nvPicPr>
        <p:blipFill>
          <a:blip r:embed="rId1"/>
          <a:stretch/>
        </p:blipFill>
        <p:spPr>
          <a:xfrm>
            <a:off x="1914480" y="1306440"/>
            <a:ext cx="5289480" cy="375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60" name=""/>
          <p:cNvSpPr/>
          <p:nvPr/>
        </p:nvSpPr>
        <p:spPr>
          <a:xfrm>
            <a:off x="528480" y="5554800"/>
            <a:ext cx="78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0000"/>
                </a:solidFill>
                <a:latin typeface="Comic Sans MS"/>
              </a:rPr>
              <a:t>Fried eggs</a:t>
            </a:r>
            <a:r>
              <a:rPr b="0" i="1" lang="de-DE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simultaneous vertical extension and horizontal com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Nachbeb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aftershocks" descr=""/>
          <p:cNvPicPr/>
          <p:nvPr/>
        </p:nvPicPr>
        <p:blipFill>
          <a:blip r:embed="rId1"/>
          <a:stretch/>
        </p:blipFill>
        <p:spPr>
          <a:xfrm>
            <a:off x="1133640" y="1052640"/>
            <a:ext cx="69912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eachballs - Himalay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cmt-tibet" descr=""/>
          <p:cNvPicPr/>
          <p:nvPr/>
        </p:nvPicPr>
        <p:blipFill>
          <a:blip r:embed="rId1"/>
          <a:stretch/>
        </p:blipFill>
        <p:spPr>
          <a:xfrm>
            <a:off x="684360" y="1187280"/>
            <a:ext cx="7853040" cy="508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eachballs - glob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beach_global" descr=""/>
          <p:cNvPicPr/>
          <p:nvPr/>
        </p:nvPicPr>
        <p:blipFill>
          <a:blip r:embed="rId1"/>
          <a:stretch/>
        </p:blipFill>
        <p:spPr>
          <a:xfrm>
            <a:off x="260280" y="1165320"/>
            <a:ext cx="8666280" cy="426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Fault scarp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scarp01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27920" y="5869080"/>
            <a:ext cx="167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Califor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Fault scarp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scarp03" descr=""/>
          <p:cNvPicPr/>
          <p:nvPr/>
        </p:nvPicPr>
        <p:blipFill>
          <a:blip r:embed="rId1"/>
          <a:stretch/>
        </p:blipFill>
        <p:spPr>
          <a:xfrm>
            <a:off x="2787480" y="1138320"/>
            <a:ext cx="3429000" cy="5143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3560" y="3700440"/>
            <a:ext cx="167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Califor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Fault scarp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scarp04" descr=""/>
          <p:cNvPicPr/>
          <p:nvPr/>
        </p:nvPicPr>
        <p:blipFill>
          <a:blip r:embed="rId1"/>
          <a:stretch/>
        </p:blipFill>
        <p:spPr>
          <a:xfrm>
            <a:off x="1557360" y="1319040"/>
            <a:ext cx="6172200" cy="405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27720" y="5834160"/>
            <a:ext cx="167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Califor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Fault scarp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DCP00058" descr=""/>
          <p:cNvPicPr/>
          <p:nvPr/>
        </p:nvPicPr>
        <p:blipFill>
          <a:blip r:embed="rId1"/>
          <a:stretch/>
        </p:blipFill>
        <p:spPr>
          <a:xfrm>
            <a:off x="1441440" y="996840"/>
            <a:ext cx="6248520" cy="468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7" name=""/>
          <p:cNvSpPr/>
          <p:nvPr/>
        </p:nvSpPr>
        <p:spPr>
          <a:xfrm>
            <a:off x="3885840" y="5892840"/>
            <a:ext cx="128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aiw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Fault scarp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tw015" descr=""/>
          <p:cNvPicPr/>
          <p:nvPr/>
        </p:nvPicPr>
        <p:blipFill>
          <a:blip r:embed="rId1"/>
          <a:stretch/>
        </p:blipFill>
        <p:spPr>
          <a:xfrm>
            <a:off x="1195560" y="1014480"/>
            <a:ext cx="6645240" cy="477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0" name=""/>
          <p:cNvSpPr/>
          <p:nvPr/>
        </p:nvSpPr>
        <p:spPr>
          <a:xfrm>
            <a:off x="3850920" y="5986440"/>
            <a:ext cx="128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aiw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Elastic reboun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rebound" descr=""/>
          <p:cNvPicPr/>
          <p:nvPr/>
        </p:nvPicPr>
        <p:blipFill>
          <a:blip r:embed="rId1"/>
          <a:stretch/>
        </p:blipFill>
        <p:spPr>
          <a:xfrm>
            <a:off x="727200" y="1265400"/>
            <a:ext cx="748656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ault typ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6597720" y="2158920"/>
            <a:ext cx="1657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is fault types and their appearance in the focal mechanisms. Dark regions indicate compressional P-wave mo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eachball" descr=""/>
          <p:cNvPicPr/>
          <p:nvPr/>
        </p:nvPicPr>
        <p:blipFill>
          <a:blip r:embed="rId1"/>
          <a:stretch/>
        </p:blipFill>
        <p:spPr>
          <a:xfrm>
            <a:off x="1235160" y="1011240"/>
            <a:ext cx="41162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9:29:31Z</dcterms:created>
  <dc:creator>Prof. Dr. Heiner Igel</dc:creator>
  <dc:description/>
  <dc:language>en-US</dc:language>
  <cp:lastModifiedBy>heiner igel</cp:lastModifiedBy>
  <dcterms:modified xsi:type="dcterms:W3CDTF">2005-02-03T10:35:16Z</dcterms:modified>
  <cp:revision>84</cp:revision>
  <dc:subject/>
  <dc:title>PowerPoint-Präsentation</dc:title>
</cp:coreProperties>
</file>